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C1297-1359-42FA-94A0-A85FE8C77B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8920" y="2349000"/>
            <a:ext cx="8713800" cy="101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3430080"/>
            <a:ext cx="6400800" cy="75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600" y="4257000"/>
            <a:ext cx="6400800" cy="75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939823-8A5F-44E5-B516-EFD0833156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8920" y="2349000"/>
            <a:ext cx="8713800" cy="101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3430080"/>
            <a:ext cx="3123360" cy="75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3430080"/>
            <a:ext cx="3123360" cy="75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4257000"/>
            <a:ext cx="3123360" cy="75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1560" y="4257000"/>
            <a:ext cx="3123360" cy="75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CC897E-B211-4AE4-96EC-0E5664B718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8920" y="2349000"/>
            <a:ext cx="8713800" cy="101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3430080"/>
            <a:ext cx="2060640" cy="75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35560" y="3430080"/>
            <a:ext cx="2060640" cy="75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99880" y="3430080"/>
            <a:ext cx="2060640" cy="75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600" y="4257000"/>
            <a:ext cx="2060640" cy="75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35560" y="4257000"/>
            <a:ext cx="2060640" cy="75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99880" y="4257000"/>
            <a:ext cx="2060640" cy="75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AF6457-4BF5-44C5-9E10-B8272F5B18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8920" y="2349000"/>
            <a:ext cx="8713800" cy="101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430080"/>
            <a:ext cx="6400800" cy="15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8920" y="2349000"/>
            <a:ext cx="8713800" cy="101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600" y="3430080"/>
            <a:ext cx="6400800" cy="15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8920" y="2349000"/>
            <a:ext cx="8713800" cy="101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371600" y="3430080"/>
            <a:ext cx="3123360" cy="15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51560" y="3430080"/>
            <a:ext cx="3123360" cy="15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8920" y="2349000"/>
            <a:ext cx="8713800" cy="101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920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78920" y="2349000"/>
            <a:ext cx="8713800" cy="468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8920" y="2349000"/>
            <a:ext cx="8713800" cy="101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1600" y="3430080"/>
            <a:ext cx="3123360" cy="75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51560" y="3430080"/>
            <a:ext cx="3123360" cy="15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371600" y="4257000"/>
            <a:ext cx="3123360" cy="75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8920" y="2349000"/>
            <a:ext cx="8713800" cy="101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600" y="3430080"/>
            <a:ext cx="6400800" cy="15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49C2CA-320B-45EE-A64C-62BC347088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78920" y="2349000"/>
            <a:ext cx="8713800" cy="101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71600" y="3430080"/>
            <a:ext cx="3123360" cy="15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51560" y="3430080"/>
            <a:ext cx="3123360" cy="75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51560" y="4257000"/>
            <a:ext cx="3123360" cy="75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8920" y="2349000"/>
            <a:ext cx="8713800" cy="101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3430080"/>
            <a:ext cx="3123360" cy="75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51560" y="3430080"/>
            <a:ext cx="3123360" cy="75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371600" y="4257000"/>
            <a:ext cx="6400800" cy="75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8920" y="2349000"/>
            <a:ext cx="8713800" cy="101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430080"/>
            <a:ext cx="6400800" cy="75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371600" y="4257000"/>
            <a:ext cx="6400800" cy="75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8920" y="2349000"/>
            <a:ext cx="8713800" cy="101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600" y="3430080"/>
            <a:ext cx="3123360" cy="75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51560" y="3430080"/>
            <a:ext cx="3123360" cy="75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71600" y="4257000"/>
            <a:ext cx="3123360" cy="75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51560" y="4257000"/>
            <a:ext cx="3123360" cy="75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78920" y="2349000"/>
            <a:ext cx="8713800" cy="101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71600" y="3430080"/>
            <a:ext cx="2060640" cy="75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535560" y="3430080"/>
            <a:ext cx="2060640" cy="75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699880" y="3430080"/>
            <a:ext cx="2060640" cy="75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371600" y="4257000"/>
            <a:ext cx="2060640" cy="75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535560" y="4257000"/>
            <a:ext cx="2060640" cy="75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699880" y="4257000"/>
            <a:ext cx="2060640" cy="75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8920" y="2349000"/>
            <a:ext cx="8713800" cy="101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600" y="3430080"/>
            <a:ext cx="6400800" cy="15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1D3450-1FF3-417C-9730-4E66C985A8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8920" y="2349000"/>
            <a:ext cx="8713800" cy="101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3430080"/>
            <a:ext cx="3123360" cy="15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1560" y="3430080"/>
            <a:ext cx="3123360" cy="15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EB96B5-49B0-424B-9FFB-1EEA2D7F5B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8920" y="2349000"/>
            <a:ext cx="8713800" cy="101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6C5612-772D-4AB0-B14B-7B03388A8D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8920" y="2349000"/>
            <a:ext cx="8713800" cy="468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41AE7A-4824-48CA-880C-8D5E2FC467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8920" y="2349000"/>
            <a:ext cx="8713800" cy="101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3430080"/>
            <a:ext cx="3123360" cy="75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1560" y="3430080"/>
            <a:ext cx="3123360" cy="15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600" y="4257000"/>
            <a:ext cx="3123360" cy="75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1AC234-14BD-4D7A-A80F-414C386C92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8920" y="2349000"/>
            <a:ext cx="8713800" cy="101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3430080"/>
            <a:ext cx="3123360" cy="15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3430080"/>
            <a:ext cx="3123360" cy="75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1560" y="4257000"/>
            <a:ext cx="3123360" cy="75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9D9680-B3A0-4F68-BA9F-1380ADEBDC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8920" y="2349000"/>
            <a:ext cx="8713800" cy="101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3430080"/>
            <a:ext cx="3123360" cy="75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3430080"/>
            <a:ext cx="3123360" cy="75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4257000"/>
            <a:ext cx="6400800" cy="75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C7BFF2-EDD6-49AA-906E-C0FE31B7D9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6770" r="16624" b="5685"/>
          <a:stretch/>
        </p:blipFill>
        <p:spPr>
          <a:xfrm>
            <a:off x="0" y="0"/>
            <a:ext cx="9144000" cy="5763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65320" indent="-26352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8120" indent="-26352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65320" indent="-2667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65320" indent="-266760">
              <a:spcBef>
                <a:spcPts val="601"/>
              </a:spcBef>
              <a:buClr>
                <a:srgbClr val="0000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65320" indent="-266760">
              <a:spcBef>
                <a:spcPts val="601"/>
              </a:spcBef>
              <a:buClr>
                <a:srgbClr val="0000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692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3" name=""/>
          <p:cNvSpPr/>
          <p:nvPr/>
        </p:nvSpPr>
        <p:spPr>
          <a:xfrm>
            <a:off x="7020000" y="189000"/>
            <a:ext cx="212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Verdana"/>
              </a:rPr>
              <a:t>bonn-to-code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0" y="549360"/>
            <a:ext cx="9144000" cy="7308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100000">
                <a:srgbClr val="003b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80364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E8E5E-5B74-4438-A2E0-89441F136A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7020000" y="189000"/>
            <a:ext cx="212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Verdana"/>
              </a:rPr>
              <a:t>bonn-to-code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rcRect l="0" t="6770" r="16624" b="5685"/>
          <a:stretch/>
        </p:blipFill>
        <p:spPr>
          <a:xfrm>
            <a:off x="0" y="0"/>
            <a:ext cx="9144000" cy="5763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468360" y="2852640"/>
            <a:ext cx="8229600" cy="57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20000" y="189000"/>
            <a:ext cx="212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Verdana"/>
              </a:rPr>
              <a:t>bonn-to-code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549360"/>
            <a:ext cx="9144000" cy="7308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100000">
                <a:srgbClr val="003b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8920" y="2349000"/>
            <a:ext cx="8713800" cy="101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6920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446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812880" indent="88920" algn="ctr"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166760" indent="177840" algn="ctr">
              <a:spcBef>
                <a:spcPts val="45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695600" indent="102960" algn="ctr">
              <a:spcBef>
                <a:spcPts val="45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695600" indent="102960">
              <a:spcBef>
                <a:spcPts val="451"/>
              </a:spcBef>
              <a:buClr>
                <a:srgbClr val="0000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695600" indent="102960">
              <a:spcBef>
                <a:spcPts val="451"/>
              </a:spcBef>
              <a:buClr>
                <a:srgbClr val="0000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msdn.microsoft.com/asp.net/reference/infrastructure/wdp/default.aspx" TargetMode="External"/><Relationship Id="rId2" Type="http://schemas.openxmlformats.org/officeDocument/2006/relationships/hyperlink" Target="http://der-albert.com/" TargetMode="External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8920" y="2349000"/>
            <a:ext cx="8713800" cy="101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f69200"/>
                </a:solidFill>
                <a:latin typeface="Verdana"/>
              </a:rPr>
              <a:t>Web Deployment Projects</a:t>
            </a:r>
            <a:endParaRPr b="1" lang="en-US" sz="36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646080"/>
            <a:ext cx="640080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16.05.2006 –  Albert Weiner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"/>
          <p:cNvSpPr/>
          <p:nvPr/>
        </p:nvSpPr>
        <p:spPr>
          <a:xfrm>
            <a:off x="0" y="5951520"/>
            <a:ext cx="3564000" cy="9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216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Verdana"/>
              </a:rPr>
              <a:t>EMail:</a:t>
            </a:r>
            <a:r>
              <a:rPr b="1" lang="de-DE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inf@der-alber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216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Verdana"/>
              </a:rPr>
              <a:t>Web:</a:t>
            </a: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http://der-alber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Links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Web Deployment Projects</a:t>
            </a:r>
            <a:br>
              <a:rPr sz="2400"/>
            </a:br>
            <a:r>
              <a:rPr b="1" lang="de-DE" sz="2400" spc="-1" strike="noStrike" u="sng">
                <a:solidFill>
                  <a:srgbClr val="009999"/>
                </a:solidFill>
                <a:uFillTx/>
                <a:latin typeface="Tahoma"/>
                <a:hlinkClick r:id="rId1"/>
              </a:rPr>
              <a:t>http://msdn.microsoft.com/asp.net/reference/infrastructure/wdp/default.aspx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App_Offline MS Build-Target</a:t>
            </a:r>
            <a:br>
              <a:rPr sz="2400"/>
            </a:br>
            <a:r>
              <a:rPr b="1" lang="de-DE" sz="2400" spc="-1" strike="noStrike" u="sng">
                <a:solidFill>
                  <a:srgbClr val="009999"/>
                </a:solidFill>
                <a:uFillTx/>
                <a:latin typeface="Tahoma"/>
                <a:hlinkClick r:id="rId2"/>
              </a:rPr>
              <a:t>http://der-albert.com</a:t>
            </a: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 (suche nach App_Offline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ipe dir="d"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898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898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898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78920" y="2349000"/>
            <a:ext cx="8713800" cy="101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f69200"/>
                </a:solidFill>
                <a:latin typeface="Verdana"/>
              </a:rPr>
              <a:t>Fertig aus!</a:t>
            </a:r>
            <a:endParaRPr b="1" lang="en-US" sz="36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371600" y="3430080"/>
            <a:ext cx="6400800" cy="15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5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5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Web Deployment Projects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lnSpc>
                <a:spcPct val="15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Erweitertes Deployment Mod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lnSpc>
                <a:spcPct val="15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Web.config Ersetzung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lnSpc>
                <a:spcPct val="15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Erweiterbar über MSBuild-Targe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lnSpc>
                <a:spcPct val="15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Zusammenfassung der Assemblie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lnSpc>
                <a:spcPct val="15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mehrere Deployment Projekte möglich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lnSpc>
                <a:spcPct val="15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auch die bisherige Funktionalitä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8920" y="2349000"/>
            <a:ext cx="8713800" cy="101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f69200"/>
                </a:solidFill>
                <a:latin typeface="Verdana"/>
              </a:rPr>
              <a:t>DEMO</a:t>
            </a:r>
            <a:endParaRPr b="1" lang="en-US" sz="36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430080"/>
            <a:ext cx="6400800" cy="15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Deployment Projekt erstelle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Web.config Ersetzung</a:t>
            </a: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	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lnSpc>
                <a:spcPct val="15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Komplettes ersetzen von Zweige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lnSpc>
                <a:spcPct val="15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kein ändern von vorhandenen Einträge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lnSpc>
                <a:spcPct val="15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Überprüfung auf Vollständigkeit möglich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lnSpc>
                <a:spcPct val="15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Zielangabe mit XPath ohne &lt;configuration /&gt;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lnSpc>
                <a:spcPct val="15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appSettings=dateiname.config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lnSpc>
                <a:spcPct val="15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system.web/compilation=dateiname.config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8920" y="2349000"/>
            <a:ext cx="8713800" cy="101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f69200"/>
                </a:solidFill>
                <a:latin typeface="Verdana"/>
              </a:rPr>
              <a:t>DEMO</a:t>
            </a:r>
            <a:endParaRPr b="1" lang="en-US" sz="36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371600" y="3430080"/>
            <a:ext cx="6400800" cy="15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Web.config Ersetzung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MSBuild Targets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97" name=""/>
          <p:cNvSpPr/>
          <p:nvPr/>
        </p:nvSpPr>
        <p:spPr>
          <a:xfrm>
            <a:off x="2340000" y="1484280"/>
            <a:ext cx="4680000" cy="5373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643200" y="1557360"/>
            <a:ext cx="1701720" cy="429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b84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Validieru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582000" y="2141640"/>
            <a:ext cx="1762560" cy="429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cc3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BeforeBuil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79960" y="2727360"/>
            <a:ext cx="2367720" cy="429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b84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AspNetCompil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21880" y="3311640"/>
            <a:ext cx="1886040" cy="429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cc3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BeforeMer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474360" y="3897360"/>
            <a:ext cx="1978920" cy="429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AspNetMer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656880" y="4481640"/>
            <a:ext cx="1652760" cy="429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cc3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AfterMer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628720" y="5067360"/>
            <a:ext cx="3672360" cy="429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b84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ReplaceWebConfigur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892960" y="5651640"/>
            <a:ext cx="3143520" cy="429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b84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CreateVirtualDirecto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716640" y="6237360"/>
            <a:ext cx="1529640" cy="429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cc3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AfterBuil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804000" y="1628640"/>
            <a:ext cx="0" cy="4969080"/>
          </a:xfrm>
          <a:prstGeom prst="line">
            <a:avLst/>
          </a:prstGeom>
          <a:ln w="31680">
            <a:solidFill>
              <a:srgbClr val="000080"/>
            </a:solidFill>
            <a:prstDash val="dash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78920" y="2349000"/>
            <a:ext cx="8713800" cy="101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f69200"/>
                </a:solidFill>
                <a:latin typeface="Verdana"/>
              </a:rPr>
              <a:t>DEMO</a:t>
            </a:r>
            <a:endParaRPr b="1" lang="en-US" sz="36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371600" y="3430080"/>
            <a:ext cx="6400800" cy="15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MS Build Targe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Assemblies Zusammenfassen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lnSpc>
                <a:spcPct val="15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Pro Seite (wie bisher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lnSpc>
                <a:spcPct val="15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Pro Ordner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lnSpc>
                <a:spcPct val="15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Nur Seiten und Controls, ohne spezielle Ordner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lnSpc>
                <a:spcPct val="15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Alles Zusammenfasse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lnSpc>
                <a:spcPct val="15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Assembly Version setze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78920" y="2349000"/>
            <a:ext cx="8713800" cy="101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f69200"/>
                </a:solidFill>
                <a:latin typeface="Verdana"/>
              </a:rPr>
              <a:t>DEMO</a:t>
            </a:r>
            <a:endParaRPr b="1" lang="en-US" sz="36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1371600" y="3430080"/>
            <a:ext cx="6400800" cy="15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Weitere Einstellunge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0T20:54:38Z</dcterms:created>
  <dc:creator>Roland Weigelt</dc:creator>
  <dc:description/>
  <dc:language>en-US</dc:language>
  <cp:lastModifiedBy>aweinert</cp:lastModifiedBy>
  <dcterms:modified xsi:type="dcterms:W3CDTF">2006-05-16T15:10:42Z</dcterms:modified>
  <cp:revision>218</cp:revision>
  <dc:subject/>
  <dc:title>Slide 1</dc:title>
</cp:coreProperties>
</file>